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5145088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dt" idx="2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A7DC-B4F8-440A-805D-DC68D33E135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Img"/>
          </p:nvPr>
        </p:nvSpPr>
        <p:spPr>
          <a:xfrm>
            <a:off x="88560" y="744120"/>
            <a:ext cx="662796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ftr" idx="3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 type="sldNum" idx="4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6ED9-4A69-4F6E-99CC-3CD93E6726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88920" y="744480"/>
            <a:ext cx="6627960" cy="3729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ijdelijke aanduiding voor dianumm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269-2E0D-4103-987E-87C9AA8597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88920" y="744480"/>
            <a:ext cx="6627960" cy="3729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ijdelijke aanduiding voor dianumm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8B8-C580-48FA-AFB2-3CF0812B9B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8920" y="744480"/>
            <a:ext cx="6627960" cy="3729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ijdelijke aanduiding voor dianumm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A42-458D-4BCA-8C36-2ECEA5833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8920" y="744480"/>
            <a:ext cx="6627960" cy="3729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ijdelijke aanduiding voor dianumm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A0DE-2443-4E10-9E40-48AA8D24A6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43080" y="144000"/>
            <a:ext cx="7099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43080" y="2980440"/>
            <a:ext cx="822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60120" y="98712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4308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60120" y="2980440"/>
            <a:ext cx="40158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2552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07960" y="98712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4308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12552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07960" y="2980440"/>
            <a:ext cx="2649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9840" y="493848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8E5B-FFA7-40D6-BB1F-D26C629D4AC5}" type="datetime">
              <a:rPr b="0" lang="nl-NL" sz="600" spc="-1" strike="noStrike">
                <a:solidFill>
                  <a:srgbClr val="bfbfbf"/>
                </a:solidFill>
                <a:latin typeface="Times New Roman"/>
              </a:rPr>
              <a:t>30-07-26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D103-3DCB-4DA8-BB52-D19B66CB8B78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10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13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B14-361D-4726-89A3-F7C2E58C726B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503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506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SKY" descr=""/>
          <p:cNvPicPr/>
          <p:nvPr/>
        </p:nvPicPr>
        <p:blipFill>
          <a:blip r:embed="rId3"/>
          <a:stretch/>
        </p:blipFill>
        <p:spPr>
          <a:xfrm>
            <a:off x="4572000" y="90360"/>
            <a:ext cx="4573440" cy="4848480"/>
          </a:xfrm>
          <a:prstGeom prst="rect">
            <a:avLst/>
          </a:prstGeom>
          <a:ln w="0">
            <a:noFill/>
          </a:ln>
        </p:spPr>
      </p:pic>
      <p:sp>
        <p:nvSpPr>
          <p:cNvPr id="509" name="Rechthoek 18"/>
          <p:cNvSpPr/>
          <p:nvPr/>
        </p:nvSpPr>
        <p:spPr>
          <a:xfrm>
            <a:off x="4572000" y="4579920"/>
            <a:ext cx="4572000" cy="360360"/>
          </a:xfrm>
          <a:prstGeom prst="rect">
            <a:avLst/>
          </a:prstGeom>
          <a:solidFill>
            <a:srgbClr val="f3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19" hidden="1"/>
          <p:cNvSpPr/>
          <p:nvPr/>
        </p:nvSpPr>
        <p:spPr>
          <a:xfrm>
            <a:off x="4572000" y="3935520"/>
            <a:ext cx="4572000" cy="1004760"/>
          </a:xfrm>
          <a:prstGeom prst="rect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kstvak 30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Text &amp; Image 50/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BE0E-BBB8-4671-92B6-858560E38B17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559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562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SKY" descr=""/>
          <p:cNvPicPr/>
          <p:nvPr/>
        </p:nvPicPr>
        <p:blipFill>
          <a:blip r:embed="rId3"/>
          <a:stretch/>
        </p:blipFill>
        <p:spPr>
          <a:xfrm>
            <a:off x="5940360" y="90360"/>
            <a:ext cx="3205080" cy="4848480"/>
          </a:xfrm>
          <a:prstGeom prst="rect">
            <a:avLst/>
          </a:prstGeom>
          <a:ln w="0">
            <a:noFill/>
          </a:ln>
        </p:spPr>
      </p:pic>
      <p:sp>
        <p:nvSpPr>
          <p:cNvPr id="565" name="Rechthoek 18"/>
          <p:cNvSpPr/>
          <p:nvPr/>
        </p:nvSpPr>
        <p:spPr>
          <a:xfrm>
            <a:off x="5940360" y="4579920"/>
            <a:ext cx="3203640" cy="360360"/>
          </a:xfrm>
          <a:prstGeom prst="rect">
            <a:avLst/>
          </a:prstGeom>
          <a:solidFill>
            <a:srgbClr val="f3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hthoek 19" hidden="1"/>
          <p:cNvSpPr/>
          <p:nvPr/>
        </p:nvSpPr>
        <p:spPr>
          <a:xfrm>
            <a:off x="5938920" y="3935520"/>
            <a:ext cx="3205080" cy="1004760"/>
          </a:xfrm>
          <a:prstGeom prst="rect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kstvak 28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Text &amp; Image 60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AF5-DED5-4531-94DB-A21CF5F606C8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615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618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hthoek 17" hidden="1"/>
          <p:cNvSpPr/>
          <p:nvPr/>
        </p:nvSpPr>
        <p:spPr>
          <a:xfrm>
            <a:off x="5938920" y="3935520"/>
            <a:ext cx="3205080" cy="1004760"/>
          </a:xfrm>
          <a:prstGeom prst="rect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kstvak 25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E4E-FE56-401F-8EBC-3093E2339DC9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669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672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kstvak 20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Emp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80CD-81D0-4257-A281-4D6BC6BB7E46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58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61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Afbeelding 20" descr=""/>
          <p:cNvPicPr/>
          <p:nvPr/>
        </p:nvPicPr>
        <p:blipFill>
          <a:blip r:embed="rId3"/>
          <a:srcRect l="0" t="3541" r="0" b="1193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18" descr=""/>
          <p:cNvPicPr/>
          <p:nvPr/>
        </p:nvPicPr>
        <p:blipFill>
          <a:blip r:embed="rId4"/>
          <a:stretch/>
        </p:blipFill>
        <p:spPr>
          <a:xfrm>
            <a:off x="0" y="1871640"/>
            <a:ext cx="9144000" cy="3273480"/>
          </a:xfrm>
          <a:prstGeom prst="rect">
            <a:avLst/>
          </a:prstGeom>
          <a:ln w="0">
            <a:noFill/>
          </a:ln>
        </p:spPr>
      </p:pic>
      <p:sp>
        <p:nvSpPr>
          <p:cNvPr id="65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vak 25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68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71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787-5FC8-4380-84AE-AA0D26B57B3A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118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121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SKY" descr=""/>
          <p:cNvPicPr/>
          <p:nvPr/>
        </p:nvPicPr>
        <p:blipFill>
          <a:blip r:embed="rId3"/>
          <a:stretch/>
        </p:blipFill>
        <p:spPr>
          <a:xfrm>
            <a:off x="3203640" y="90360"/>
            <a:ext cx="5941800" cy="4848480"/>
          </a:xfrm>
          <a:prstGeom prst="rect">
            <a:avLst/>
          </a:prstGeom>
          <a:ln w="0">
            <a:noFill/>
          </a:ln>
        </p:spPr>
      </p:pic>
      <p:sp>
        <p:nvSpPr>
          <p:cNvPr id="124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hthoek 20"/>
          <p:cNvSpPr/>
          <p:nvPr/>
        </p:nvSpPr>
        <p:spPr>
          <a:xfrm>
            <a:off x="3203640" y="3935520"/>
            <a:ext cx="5940360" cy="1004760"/>
          </a:xfrm>
          <a:prstGeom prst="rect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hthoek 21"/>
          <p:cNvSpPr/>
          <p:nvPr/>
        </p:nvSpPr>
        <p:spPr>
          <a:xfrm>
            <a:off x="3203640" y="4579920"/>
            <a:ext cx="5940360" cy="360360"/>
          </a:xfrm>
          <a:prstGeom prst="rect">
            <a:avLst/>
          </a:prstGeom>
          <a:solidFill>
            <a:srgbClr val="f3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30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Text &amp; Ob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D761-AAA1-4C0D-8D08-C7A90FE1AC3A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174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177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KY" descr=""/>
          <p:cNvPicPr/>
          <p:nvPr/>
        </p:nvPicPr>
        <p:blipFill>
          <a:blip r:embed="rId3"/>
          <a:stretch/>
        </p:blipFill>
        <p:spPr>
          <a:xfrm>
            <a:off x="0" y="90360"/>
            <a:ext cx="9145440" cy="4848480"/>
          </a:xfrm>
          <a:prstGeom prst="rect">
            <a:avLst/>
          </a:prstGeom>
          <a:ln w="0">
            <a:noFill/>
          </a:ln>
        </p:spPr>
      </p:pic>
      <p:sp>
        <p:nvSpPr>
          <p:cNvPr id="180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kstvak 24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6B94-9D98-4949-99B8-B59E94330427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228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231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SKY" descr=""/>
          <p:cNvPicPr/>
          <p:nvPr/>
        </p:nvPicPr>
        <p:blipFill>
          <a:blip r:embed="rId3"/>
          <a:stretch/>
        </p:blipFill>
        <p:spPr>
          <a:xfrm>
            <a:off x="0" y="90360"/>
            <a:ext cx="9145440" cy="4848480"/>
          </a:xfrm>
          <a:prstGeom prst="rect">
            <a:avLst/>
          </a:prstGeom>
          <a:ln w="0">
            <a:noFill/>
          </a:ln>
        </p:spPr>
      </p:pic>
      <p:sp>
        <p:nvSpPr>
          <p:cNvPr id="234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24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Images (2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0B50-D32E-4E5E-BC1E-FC98BEF0294F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282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285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SKY" descr=""/>
          <p:cNvPicPr/>
          <p:nvPr/>
        </p:nvPicPr>
        <p:blipFill>
          <a:blip r:embed="rId3"/>
          <a:stretch/>
        </p:blipFill>
        <p:spPr>
          <a:xfrm>
            <a:off x="-3240" y="90360"/>
            <a:ext cx="9147240" cy="4848480"/>
          </a:xfrm>
          <a:prstGeom prst="rect">
            <a:avLst/>
          </a:prstGeom>
          <a:ln w="0">
            <a:noFill/>
          </a:ln>
        </p:spPr>
      </p:pic>
      <p:sp>
        <p:nvSpPr>
          <p:cNvPr id="288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kstvak 24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Images (4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398D-541F-4B34-A514-EAC2BF5D687F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336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339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SKY" descr=""/>
          <p:cNvPicPr/>
          <p:nvPr/>
        </p:nvPicPr>
        <p:blipFill>
          <a:blip r:embed="rId3"/>
          <a:stretch/>
        </p:blipFill>
        <p:spPr>
          <a:xfrm>
            <a:off x="0" y="90360"/>
            <a:ext cx="9145440" cy="4848480"/>
          </a:xfrm>
          <a:prstGeom prst="rect">
            <a:avLst/>
          </a:prstGeom>
          <a:ln w="0">
            <a:noFill/>
          </a:ln>
        </p:spPr>
      </p:pic>
      <p:sp>
        <p:nvSpPr>
          <p:cNvPr id="342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hthoek 20"/>
          <p:cNvSpPr/>
          <p:nvPr/>
        </p:nvSpPr>
        <p:spPr>
          <a:xfrm>
            <a:off x="0" y="4579920"/>
            <a:ext cx="9145440" cy="360360"/>
          </a:xfrm>
          <a:prstGeom prst="rect">
            <a:avLst/>
          </a:prstGeom>
          <a:solidFill>
            <a:srgbClr val="f3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28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Image &amp; Under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0CF9-756F-4D21-A5BD-67426CBB5781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391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394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6" name="SKY" descr=""/>
          <p:cNvPicPr/>
          <p:nvPr/>
        </p:nvPicPr>
        <p:blipFill>
          <a:blip r:embed="rId3"/>
          <a:stretch/>
        </p:blipFill>
        <p:spPr>
          <a:xfrm>
            <a:off x="0" y="90360"/>
            <a:ext cx="9145440" cy="4848480"/>
          </a:xfrm>
          <a:prstGeom prst="rect">
            <a:avLst/>
          </a:prstGeom>
          <a:ln w="0">
            <a:noFill/>
          </a:ln>
        </p:spPr>
      </p:pic>
      <p:sp>
        <p:nvSpPr>
          <p:cNvPr id="397" name="Rechthoek 18"/>
          <p:cNvSpPr/>
          <p:nvPr/>
        </p:nvSpPr>
        <p:spPr>
          <a:xfrm>
            <a:off x="0" y="3935520"/>
            <a:ext cx="9144000" cy="1004760"/>
          </a:xfrm>
          <a:prstGeom prst="rect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hthoek 21"/>
          <p:cNvSpPr/>
          <p:nvPr/>
        </p:nvSpPr>
        <p:spPr>
          <a:xfrm>
            <a:off x="0" y="4579920"/>
            <a:ext cx="9145440" cy="360360"/>
          </a:xfrm>
          <a:prstGeom prst="rect">
            <a:avLst/>
          </a:prstGeom>
          <a:solidFill>
            <a:srgbClr val="f3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kstvak 30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Object &amp; Under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kstvlak"/>
          <p:cNvSpPr/>
          <p:nvPr/>
        </p:nvSpPr>
        <p:spPr>
          <a:xfrm>
            <a:off x="0" y="0"/>
            <a:ext cx="9145440" cy="4938840"/>
          </a:xfrm>
          <a:prstGeom prst="rect">
            <a:avLst/>
          </a:prstGeom>
          <a:gradFill rotWithShape="0">
            <a:gsLst>
              <a:gs pos="0">
                <a:srgbClr val="c4e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hthoek 8"/>
          <p:cNvSpPr/>
          <p:nvPr/>
        </p:nvSpPr>
        <p:spPr>
          <a:xfrm>
            <a:off x="0" y="4938840"/>
            <a:ext cx="9144000" cy="206280"/>
          </a:xfrm>
          <a:prstGeom prst="rect">
            <a:avLst/>
          </a:prstGeom>
          <a:solidFill>
            <a:srgbClr val="001f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6"/>
          <p:cNvSpPr/>
          <p:nvPr/>
        </p:nvSpPr>
        <p:spPr>
          <a:xfrm>
            <a:off x="8199360" y="493884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0785-9D5B-46D0-A025-16ED055B9C0F}" type="slidenum">
              <a:rPr b="0" lang="nl-NL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ijdelijke aanduiding voor dianummer 5"/>
          <p:cNvSpPr/>
          <p:nvPr/>
        </p:nvSpPr>
        <p:spPr>
          <a:xfrm>
            <a:off x="3505320" y="4938840"/>
            <a:ext cx="2133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Copyright - Port of Rotterdam - 20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Kleine ronde hoekjes"/>
          <p:cNvGrpSpPr/>
          <p:nvPr/>
        </p:nvGrpSpPr>
        <p:grpSpPr>
          <a:xfrm>
            <a:off x="0" y="5071680"/>
            <a:ext cx="9145440" cy="71640"/>
            <a:chOff x="0" y="5071680"/>
            <a:chExt cx="9145440" cy="71640"/>
          </a:xfrm>
        </p:grpSpPr>
        <p:sp>
          <p:nvSpPr>
            <p:cNvPr id="447" name="Rechtsonder"/>
            <p:cNvSpPr/>
            <p:nvPr/>
          </p:nvSpPr>
          <p:spPr>
            <a:xfrm flipH="1" flipV="1">
              <a:off x="9074160" y="5071320"/>
              <a:ext cx="71280" cy="7164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ksonder"/>
            <p:cNvSpPr/>
            <p:nvPr/>
          </p:nvSpPr>
          <p:spPr>
            <a:xfrm flipH="1" flipV="1" rot="5400000">
              <a:off x="0" y="5071320"/>
              <a:ext cx="7164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Kleine ronde hoekjes"/>
          <p:cNvGrpSpPr/>
          <p:nvPr/>
        </p:nvGrpSpPr>
        <p:grpSpPr>
          <a:xfrm>
            <a:off x="0" y="0"/>
            <a:ext cx="9145440" cy="71280"/>
            <a:chOff x="0" y="0"/>
            <a:chExt cx="9145440" cy="71280"/>
          </a:xfrm>
        </p:grpSpPr>
        <p:sp>
          <p:nvSpPr>
            <p:cNvPr id="450" name="Rechtsonder"/>
            <p:cNvSpPr/>
            <p:nvPr/>
          </p:nvSpPr>
          <p:spPr>
            <a:xfrm>
              <a:off x="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ksonder"/>
            <p:cNvSpPr/>
            <p:nvPr/>
          </p:nvSpPr>
          <p:spPr>
            <a:xfrm rot="5400000">
              <a:off x="9074160" y="0"/>
              <a:ext cx="71280" cy="71280"/>
            </a:xfrm>
            <a:custGeom>
              <a:avLst/>
              <a:gdLst/>
              <a:ahLst/>
              <a:rect l="l" t="t" r="r" b="b"/>
              <a:pathLst>
                <a:path w="1080120" h="1080120">
                  <a:moveTo>
                    <a:pt x="0" y="0"/>
                  </a:moveTo>
                  <a:lnTo>
                    <a:pt x="1080120" y="0"/>
                  </a:lnTo>
                  <a:cubicBezTo>
                    <a:pt x="807294" y="20361"/>
                    <a:pt x="537328" y="98912"/>
                    <a:pt x="334085" y="302155"/>
                  </a:cubicBezTo>
                  <a:cubicBezTo>
                    <a:pt x="130842" y="505398"/>
                    <a:pt x="34877" y="714402"/>
                    <a:pt x="0" y="10801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SKY" descr=""/>
          <p:cNvPicPr/>
          <p:nvPr/>
        </p:nvPicPr>
        <p:blipFill>
          <a:blip r:embed="rId3"/>
          <a:stretch/>
        </p:blipFill>
        <p:spPr>
          <a:xfrm>
            <a:off x="3203640" y="90360"/>
            <a:ext cx="5941800" cy="4848480"/>
          </a:xfrm>
          <a:prstGeom prst="rect">
            <a:avLst/>
          </a:prstGeom>
          <a:ln w="0">
            <a:noFill/>
          </a:ln>
        </p:spPr>
      </p:pic>
      <p:sp>
        <p:nvSpPr>
          <p:cNvPr id="453" name="Rechthoek 18" hidden="1"/>
          <p:cNvSpPr/>
          <p:nvPr/>
        </p:nvSpPr>
        <p:spPr>
          <a:xfrm>
            <a:off x="3203640" y="3935520"/>
            <a:ext cx="5940360" cy="1004760"/>
          </a:xfrm>
          <a:prstGeom prst="rect">
            <a:avLst/>
          </a:prstGeom>
          <a:gradFill rotWithShape="0">
            <a:gsLst>
              <a:gs pos="0">
                <a:srgbClr val="d6d6d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ovenbalk"/>
          <p:cNvSpPr/>
          <p:nvPr/>
        </p:nvSpPr>
        <p:spPr>
          <a:xfrm>
            <a:off x="0" y="0"/>
            <a:ext cx="9144000" cy="9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3203640" y="4579920"/>
            <a:ext cx="5940360" cy="360360"/>
          </a:xfrm>
          <a:prstGeom prst="rect">
            <a:avLst/>
          </a:prstGeom>
          <a:solidFill>
            <a:srgbClr val="f3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kstvak 28"/>
          <p:cNvSpPr/>
          <p:nvPr/>
        </p:nvSpPr>
        <p:spPr>
          <a:xfrm>
            <a:off x="0" y="-390600"/>
            <a:ext cx="26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3076"/>
                </a:solidFill>
                <a:latin typeface="Arial"/>
              </a:rPr>
              <a:t>Text &amp; Image 30/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ijdelijke aanduiding voor verticale tekst 2"/>
          <p:cNvSpPr/>
          <p:nvPr/>
        </p:nvSpPr>
        <p:spPr>
          <a:xfrm>
            <a:off x="8300880" y="90360"/>
            <a:ext cx="936720" cy="82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1f4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7099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07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43080" y="9871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3" marL="53964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a6a6a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4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307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5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6" marL="719280" indent="-17964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7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339840" y="4803480"/>
            <a:ext cx="7812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ctr">
            <a:normAutofit fontScale="31000"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f4b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39840" y="4516200"/>
            <a:ext cx="7804080" cy="2682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1f4b"/>
                </a:solidFill>
                <a:latin typeface="Arial"/>
              </a:rPr>
              <a:t>Frans van Zoelen -  CLO Havenbedrijf Rotterdam N.V. (Port of Rotterdam Authority),  Chair Legal Committee International Association of Ports and Harbors (IAPH) </a:t>
            </a:r>
            <a:endParaRPr b="1" lang="en-US" sz="14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title"/>
          </p:nvPr>
        </p:nvSpPr>
        <p:spPr>
          <a:xfrm>
            <a:off x="339840" y="15634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ort of Rotterdam, a 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Place to Refuge to?</a:t>
            </a:r>
            <a:br>
              <a:rPr sz="2800"/>
            </a:br>
            <a:br>
              <a:rPr sz="2800"/>
            </a:br>
            <a:endParaRPr b="1" lang="en-US" sz="44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subTitle"/>
          </p:nvPr>
        </p:nvSpPr>
        <p:spPr>
          <a:xfrm>
            <a:off x="339480" y="2707920"/>
            <a:ext cx="776124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Presentation Exercise Places of Refuge, Rotterdam 25 November 2013</a:t>
            </a:r>
            <a:endParaRPr b="1" lang="en-US" sz="16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Information Perspective (3)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Relevancy for Ports: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Assessment of operational risks in combination with duration of stay 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Assessment of terminal and berth availability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Assessment of financial risks (status of (limitation of) liability)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Experience in past: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Not always clear if and when there is a formal request in order to get the port-related assessment started  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3076"/>
                </a:solidFill>
                <a:latin typeface="Arial"/>
              </a:rPr>
              <a:t>A suitable berthing place: operational in-port matters</a:t>
            </a:r>
            <a:endParaRPr b="1" lang="en-US" sz="1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Important operational differences between liquid cargo vessels and container vessels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Liquid cargo vessels: can be offered shelter and subsequently be discharged in relative isolation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Container vessels: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a suitable berthing place is a commercial terminal with cranes, equipment and quay space for segregation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berthing place has to be available for a relatively long period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Decision Making Perspective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Many stakeholders involved: 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  <a:ea typeface="Calibri"/>
              </a:rPr>
              <a:t>Harbour Master, Port Health Authorities,  City Government, Safety Region, public services (Police, Fire Brigade), Security Agencies, Customs, Netherlands Food and Consumer Product Safety Authority (NVWA), Environmental Government Agency et cetera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  <a:ea typeface="Calibri"/>
              </a:rPr>
              <a:t>Political and community driven: local risk aversity even in case a balanced approach opts for granting refuge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  <a:ea typeface="Calibri"/>
              </a:rPr>
              <a:t>Closing the compensation and liablity framework is partly key in addressing community concerns 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076"/>
                </a:solidFill>
                <a:latin typeface="Arial"/>
              </a:rPr>
              <a:t>Decision Making Perspective (2) 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Managing Conflicts of Interests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Shipping Interest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Shipowners, charterers, cargo owners, insurers, masters and crew, salvor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Regulatory Interest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Flag States, Port States, Classification Societie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Coastal State Interest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National and regional governments, port authorities, coastal communities, media, environmentalist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No Easy Answers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Conflict between two old principles: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- right of ship in distress to seek refuge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- right of self-protection of any sovereign state and port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Be transparant to community at large about desired options (funneling) 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Future focus should be on: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- closing the compensation and liability framework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- if not: free standing convention on places of refuge?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Prepare stakeholders on the no-berthing-place-available situation and how to act from there (article </a:t>
            </a:r>
            <a:r>
              <a:rPr b="1" i="1" lang="nl-NL" sz="1700" spc="-1" strike="noStrike">
                <a:solidFill>
                  <a:srgbClr val="003076"/>
                </a:solidFill>
                <a:latin typeface="Arial"/>
              </a:rPr>
              <a:t>Places of refuge – learning from the MSC Flaminia</a:t>
            </a: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 in </a:t>
            </a:r>
            <a:r>
              <a:rPr b="1" i="1" lang="nl-NL" sz="1700" spc="-1" strike="noStrike">
                <a:solidFill>
                  <a:srgbClr val="003076"/>
                </a:solidFill>
                <a:latin typeface="Arial"/>
              </a:rPr>
              <a:t>Port Technology International</a:t>
            </a:r>
            <a:r>
              <a:rPr b="1" lang="nl-NL" sz="1700" spc="-1" strike="noStrike">
                <a:solidFill>
                  <a:srgbClr val="003076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" descr="W:\DHMR_Staf\Nautische Ongevallen en Voorvallen\_Eindrapportages uitgebreide onderzoeken\2009-08-30 Aanvaring Nirint Pride vs MSC Nikita (niet in NOD)\Foto en filmmateriaal\Binnekomst_1 MSC Nikita.jpg"/>
          <p:cNvPicPr/>
          <p:nvPr/>
        </p:nvPicPr>
        <p:blipFill>
          <a:blip r:embed="rId1"/>
          <a:stretch/>
        </p:blipFill>
        <p:spPr>
          <a:xfrm>
            <a:off x="366840" y="411120"/>
            <a:ext cx="7661160" cy="4159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3076"/>
                </a:solidFill>
                <a:latin typeface="Arial"/>
              </a:rPr>
              <a:t>Port of Rotterdam: a Place to Refuge to?</a:t>
            </a:r>
            <a:endParaRPr b="1" lang="en-US" sz="12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17520" y="41076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34920" y="915840"/>
            <a:ext cx="8389800" cy="359424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42720" y="144360"/>
            <a:ext cx="40129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076"/>
                </a:solidFill>
                <a:latin typeface="Arial"/>
              </a:rPr>
              <a:t>Port of Rotterdam: a Place to Refuge to?</a:t>
            </a:r>
            <a:endParaRPr b="1" lang="en-US" sz="12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b" vert="eaVer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48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W:\DHMR_Staf\Nautische Ongevallen en Voorvallen\_Eindrapportages uitgebreide onderzoeken\2009-08-30 Aanvaring Nirint Pride vs MSC Nikita (niet in NOD)\Foto en filmmateriaal\SL701608.JPG"/>
          <p:cNvPicPr/>
          <p:nvPr/>
        </p:nvPicPr>
        <p:blipFill>
          <a:blip r:embed="rId1"/>
          <a:stretch/>
        </p:blipFill>
        <p:spPr>
          <a:xfrm>
            <a:off x="1547640" y="26820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339840" y="4803480"/>
            <a:ext cx="7812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ctr">
            <a:normAutofit fontScale="31000"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f4b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39840" y="4532040"/>
            <a:ext cx="7804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ctr">
            <a:normAutofit fontScale="31000"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1f4b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title"/>
          </p:nvPr>
        </p:nvSpPr>
        <p:spPr>
          <a:xfrm>
            <a:off x="339840" y="15634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ubTitle"/>
          </p:nvPr>
        </p:nvSpPr>
        <p:spPr>
          <a:xfrm>
            <a:off x="339480" y="2707920"/>
            <a:ext cx="776124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18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W:\DHMR_Staf\Nautische Ongevallen en Voorvallen\_Eindrapportages uitgebreide onderzoeken\2009-08-30 Aanvaring Nirint Pride vs MSC Nikita (niet in NOD)\Foto en filmmateriaal\Binnekomst_1 MSC Nikita.jpg"/>
          <p:cNvPicPr/>
          <p:nvPr/>
        </p:nvPicPr>
        <p:blipFill>
          <a:blip r:embed="rId1"/>
          <a:stretch/>
        </p:blipFill>
        <p:spPr>
          <a:xfrm>
            <a:off x="366840" y="411120"/>
            <a:ext cx="7661160" cy="415944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3076"/>
                </a:solidFill>
                <a:latin typeface="Arial"/>
              </a:rPr>
              <a:t>Port of Rotterdam: a Place to Refuge to?</a:t>
            </a:r>
            <a:endParaRPr b="1" lang="en-US" sz="12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17520" y="41076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Content Presentation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076"/>
                </a:solidFill>
                <a:latin typeface="Arial"/>
              </a:rPr>
              <a:t>The Challenge</a:t>
            </a:r>
            <a:endParaRPr b="1" lang="en-US" sz="2400" spc="-1" strike="noStrike">
              <a:solidFill>
                <a:srgbClr val="003076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076"/>
                </a:solidFill>
                <a:latin typeface="Arial"/>
              </a:rPr>
              <a:t>Regulatory Perspective</a:t>
            </a:r>
            <a:endParaRPr b="1" lang="en-US" sz="2400" spc="-1" strike="noStrike">
              <a:solidFill>
                <a:srgbClr val="003076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076"/>
                </a:solidFill>
                <a:latin typeface="Arial"/>
              </a:rPr>
              <a:t>Information Perspective</a:t>
            </a:r>
            <a:endParaRPr b="1" lang="en-US" sz="2400" spc="-1" strike="noStrike">
              <a:solidFill>
                <a:srgbClr val="003076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076"/>
                </a:solidFill>
                <a:latin typeface="Arial"/>
              </a:rPr>
              <a:t>A Suitable Berth: Operational In-Port Matters</a:t>
            </a:r>
            <a:endParaRPr b="1" lang="en-US" sz="2400" spc="-1" strike="noStrike">
              <a:solidFill>
                <a:srgbClr val="003076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076"/>
                </a:solidFill>
                <a:latin typeface="Arial"/>
              </a:rPr>
              <a:t>Decision Making Perspective</a:t>
            </a:r>
            <a:endParaRPr b="1" lang="en-US" sz="24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The Challenge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Primary (non-doctrinal and practical) question 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What to do when a ship finds itself in serious difficulty or in need of assistance without, however, presenting a risk to the safety of persons involved. Should the ship be brought into </a:t>
            </a:r>
            <a:r>
              <a:rPr b="0" lang="en-AU" sz="2000" spc="-1" strike="noStrike" u="sng">
                <a:solidFill>
                  <a:srgbClr val="003076"/>
                </a:solidFill>
                <a:uFillTx/>
                <a:latin typeface="Arial"/>
              </a:rPr>
              <a:t>shelter near the coast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or into a </a:t>
            </a:r>
            <a:r>
              <a:rPr b="0" lang="en-AU" sz="2000" spc="-1" strike="noStrike" u="sng">
                <a:solidFill>
                  <a:srgbClr val="003076"/>
                </a:solidFill>
                <a:uFillTx/>
                <a:latin typeface="Arial"/>
              </a:rPr>
              <a:t>port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or, conversely, should it be </a:t>
            </a:r>
            <a:r>
              <a:rPr b="0" lang="en-AU" sz="2000" spc="-1" strike="noStrike" u="sng">
                <a:solidFill>
                  <a:srgbClr val="003076"/>
                </a:solidFill>
                <a:uFillTx/>
                <a:latin typeface="Arial"/>
              </a:rPr>
              <a:t>taken out to sea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(Para 1.2, IMO Guidelines, A.949(23))</a:t>
            </a:r>
            <a:endParaRPr b="0" lang="en-US" sz="20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The Challenge (2)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Until recently, granting of refuge to ships in distress was a long accepted custom of the sea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Refuge was not always requested, but when requested it was rarely refused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076"/>
                </a:solidFill>
                <a:latin typeface="Arial"/>
              </a:rPr>
              <a:t>In recent times coastal States have increasingly refused refuge particularly where there is a risk of oil pollution or other environmental harm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45720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Regulatory Perspective 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-179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No provisions in Law of the Sea Convention </a:t>
            </a:r>
            <a:r>
              <a:rPr b="1" lang="en-AU" sz="1800" spc="-1" strike="noStrike">
                <a:solidFill>
                  <a:srgbClr val="003076"/>
                </a:solidFill>
                <a:latin typeface="Arial"/>
              </a:rPr>
              <a:t>(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UNCLOS) or IMO instruments requiring the granting of a Place of Refuge</a:t>
            </a:r>
            <a:endParaRPr b="1" lang="en-US" sz="1800" spc="-1" strike="noStrike">
              <a:solidFill>
                <a:srgbClr val="003076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Certain aspects covered by </a:t>
            </a:r>
            <a:endParaRPr b="1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- Law of the Sea Convention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- Search and Rescue Convention (SAR)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- Safety of Life at Sea Convention (SOLAS)  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- Salvage Convention 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Regional: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- Erika Packages/Directive 2002/59/EC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- Bonn Agreement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but no one regulation covers all aspects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3076"/>
                </a:solidFill>
                <a:latin typeface="Arial"/>
              </a:rPr>
              <a:t>Compensation and Liability Framework not closed (HNS-Convention!)</a:t>
            </a: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076"/>
                </a:solidFill>
                <a:latin typeface="Arial"/>
              </a:rPr>
              <a:t>Regulatory Perspective (2)</a:t>
            </a:r>
            <a:endParaRPr b="1" lang="en-US" sz="28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Conclusions: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No right of general or specific access to ports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Obligation now one of humanitarian assistance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Legal aspects more or less scattered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Concerns about an adequate compensation and liability framework (“pure economic loss”)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3076"/>
                </a:solidFill>
                <a:latin typeface="Arial"/>
              </a:rPr>
              <a:t>Question: free standing convention on Places of Refuge needed?  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Information Perspective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marL="179280" indent="-179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Condition of ship and cargo: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Stability, damage, watertight integrity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Fire, smoke and noxious gasses, dangerous goods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Reports, certificates, cargo lists and stowage plans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Salvor involved?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  <a:p>
            <a:pPr marL="1792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3076"/>
                </a:solidFill>
                <a:latin typeface="Arial"/>
              </a:rPr>
              <a:t>- General average situation</a:t>
            </a:r>
            <a:endParaRPr b="1" lang="en-US" sz="20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43080" y="144000"/>
            <a:ext cx="53085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3076"/>
                </a:solidFill>
                <a:latin typeface="Arial"/>
              </a:rPr>
              <a:t>Information Perspective (2)</a:t>
            </a:r>
            <a:endParaRPr b="1" lang="en-US" sz="2600" spc="-1" strike="noStrike">
              <a:solidFill>
                <a:srgbClr val="0030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43080" y="987120"/>
            <a:ext cx="8431200" cy="3816360"/>
          </a:xfrm>
          <a:prstGeom prst="rect">
            <a:avLst/>
          </a:prstGeom>
          <a:noFill/>
          <a:ln w="0">
            <a:noFill/>
          </a:ln>
        </p:spPr>
        <p:txBody>
          <a:bodyPr tIns="126000" anchor="t">
            <a:normAutofit/>
          </a:bodyPr>
          <a:p>
            <a:pPr lvl="1" marL="181080" indent="-1810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9cd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Para 3.9 IMO-guidelines sets out these specific factors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Condition of ship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Type of cargo carried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Whether master, crew or salvors on board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Salvage agreement or not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Distance to potential place of refuge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Whether ship insured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Details of financial security required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2" marL="361800" indent="-1807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ffd8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3076"/>
                </a:solidFill>
                <a:latin typeface="Arial"/>
              </a:rPr>
              <a:t>Requirements of flag States</a:t>
            </a:r>
            <a:endParaRPr b="0" lang="en-US" sz="2500" spc="-1" strike="noStrike">
              <a:solidFill>
                <a:srgbClr val="003076"/>
              </a:solidFill>
              <a:latin typeface="Arial"/>
            </a:endParaRPr>
          </a:p>
          <a:p>
            <a:pPr lvl="1" marL="181080"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3076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100" spc="-1" strike="noStrike">
              <a:solidFill>
                <a:srgbClr val="003076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0:41:42Z</dcterms:created>
  <dc:creator>Kampen, van, Marcel</dc:creator>
  <dc:description/>
  <dc:language>en-US</dc:language>
  <cp:lastModifiedBy>Frans van Zoelen</cp:lastModifiedBy>
  <cp:lastPrinted>2013-11-24T12:47:10Z</cp:lastPrinted>
  <dcterms:modified xsi:type="dcterms:W3CDTF">2013-11-25T16:03:59Z</dcterms:modified>
  <cp:revision>105</cp:revision>
  <dc:subject>Corporate</dc:subject>
  <dc:title>Port Quality &amp; Safety Management System</dc:title>
</cp:coreProperties>
</file>